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DF1-EF12-428C-8525-EF4B2CFD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707-1F37-42AE-9A89-AFE185DD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CFD-E6BD-453A-9FEE-B96A349F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B9A-B766-44E1-97CD-1B258739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8C3-E07B-4976-9EDC-2D14A058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DC2-AEC0-45E9-9510-54676E90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9AC-6B05-43AC-B33D-B370FF19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684-91F2-483D-8471-D6F3F2E5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80E-C87F-4DE7-8397-7195B0B0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115-9C7A-4B44-976E-98E83C78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875-C340-488E-ACFF-91E66987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331-69EF-4F6D-A260-F3DA65B4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3A81-779B-4347-BA02-047FB3120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ogan Hend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http://t0.gstatic.com/images?q=tbn:ANd9GcSXnMSiIJrY1qpmK-S7Kb3150nysYuRruR9BaVheU062Oc5uQzO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islpt103\Local Settings\Temporary Internet Files\Content.IE5\DXE561CM\MP900403810[1]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4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t2.gstatic.com/images?q=tbn:ANd9GcSz36x6lrYRdEuCYWZZAnOCKFNN5nOWSGunrgg8QtJ_ptxGFV3M"/>
          <p:cNvPicPr/>
          <p:nvPr/>
        </p:nvPicPr>
        <p:blipFill>
          <a:blip r:embed="rId1"/>
          <a:stretch/>
        </p:blipFill>
        <p:spPr>
          <a:xfrm>
            <a:off x="0" y="160164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://t0.gstatic.com/images?q=tbn:ANd9GcSsBD8H58kGtZHdpseYX_aJddydPE3Rc7keBsuecGBgq85xyWiu5_S1FDEaRQ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t1.gstatic.com/images?q=tbn:ANd9GcSag13HPEsm7ZGXSzW4nTqOlp29TVpd19sT9B0xh-ZECORF7IoL7w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 apart from Greece but kept economic  ties with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http://t0.gstatic.com/images?q=tbn:ANd9GcR3FitLvNd9dTRpelJlXbifQwxm5Io8uY80B5BHEsnUjbnUbcexRw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1.gstatic.com/images?q=tbn:ANd9GcSCuFdSSnVmqoaXUzU4ElIlNAdpyD53BPg6x3c6tboJNvOesBNTXA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 evidence  and make decisions in a court of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t3.gstatic.com/images?q=tbn:ANd9GcQw3cTmq9V5MaZmD7vm_83NKb3McAItCvj4s5e068NkvfJ4g44X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t2.gstatic.com/images?q=tbn:ANd9GcSsq4HhS0vVs0CIqb0lkC_Y4C6LJebttAnWVh6q79NA1L1ewvIp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9T17:07:41Z</dcterms:modified>
  <cp:revision>94</cp:revision>
  <dc:subject/>
  <dc:title>Ancient Greece</dc:title>
</cp:coreProperties>
</file>